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52659"/>
        <c:axId val="53410603"/>
      </c:barChart>
      <c:catAx>
        <c:axId val="21052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0603"/>
        <c:crosses val="autoZero"/>
        <c:auto val="1"/>
        <c:lblAlgn val="ctr"/>
        <c:lblOffset val="100"/>
        <c:noMultiLvlLbl val="0"/>
      </c:catAx>
      <c:valAx>
        <c:axId val="53410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52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B46-BDB7-4F1B-8F66-58579BA9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99F-957B-46C6-A134-E2E4CA3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405-51EA-4889-94C9-DBE4D9CA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319-F08A-41A3-B01F-F9A1612E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00F-91F3-4FAD-ABBB-55ACA7E0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041-5BE7-4900-8989-EA6461A2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B73-2495-4C22-942F-4E5C30C1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E87-FDBA-450C-AEBA-31909F35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980-8D1D-4632-AE0F-46AFC8AA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B50-9F8B-4DF3-984E-3D707AE4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01D-2F87-4B2D-8307-EC4A2CE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4B9-A353-47FC-ADC2-FF532E6F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3B72B-67F0-4DE7-9C0D-D28CF20015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