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5097"/>
        <c:axId val="65905110"/>
      </c:barChart>
      <c:catAx>
        <c:axId val="1655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05110"/>
        <c:crosses val="autoZero"/>
        <c:auto val="1"/>
        <c:lblAlgn val="ctr"/>
        <c:lblOffset val="100"/>
        <c:noMultiLvlLbl val="0"/>
      </c:catAx>
      <c:valAx>
        <c:axId val="65905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5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B9A-1A4E-4AB7-92E3-CA3DF81F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2AF-360A-49CB-93E2-6EE7C4C5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EF4-10DF-4120-AC32-64FE3AEC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E4E-8D17-463D-9372-3A39AB36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0C3-E7AA-4385-969B-BC22195D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C34-D89C-4967-9BE4-719D68E2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3AA-202E-4A3A-94D5-4D07599F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414-ADAE-4D10-A9AC-6E49B486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87A-0629-4541-8F7F-3C76866C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54B-B063-438F-8265-FB039B20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217-C5D9-4D16-A426-7482F81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5E7-D05C-4BD4-B4C1-850FDD8D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43400-4638-42D5-8B5A-7F51F0581B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