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20701"/>
        <c:axId val="35823567"/>
      </c:barChart>
      <c:catAx>
        <c:axId val="86820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23567"/>
        <c:crosses val="autoZero"/>
        <c:auto val="1"/>
        <c:lblAlgn val="ctr"/>
        <c:lblOffset val="100"/>
        <c:noMultiLvlLbl val="0"/>
      </c:catAx>
      <c:valAx>
        <c:axId val="35823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0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0A4-0756-4B9F-8BCF-AD0279A8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8DF-9E20-4705-8259-2DDB4C4D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E5F-F728-4E1A-AA7F-34C9F81A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2F8-41CB-41EC-AE34-6DA22248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C3B-6192-4E3F-92B2-788828E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D17-4DAD-4761-B4FD-3B81B6E7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0F9-4FEF-45C5-B7FE-0CEC92B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88D-162A-4174-9129-A3A786CF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68F-F549-460E-99EE-43E75D30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CF5-3FA0-4497-8905-AA977E38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C8D-DB20-4CBF-86B1-6D333629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A11-8EB0-433E-9A88-3007266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68DA-8EC0-481D-AA5F-41DCD64C3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