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365008"/>
        <c:axId val="70592844"/>
      </c:barChart>
      <c:catAx>
        <c:axId val="67365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92844"/>
        <c:crosses val="autoZero"/>
        <c:auto val="1"/>
        <c:lblAlgn val="ctr"/>
        <c:lblOffset val="100"/>
        <c:noMultiLvlLbl val="0"/>
      </c:catAx>
      <c:valAx>
        <c:axId val="705928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65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CF3F-D82F-4CBE-A231-B89EB2B8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D1F1-1F23-4E47-BE4B-1CBEC8F6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941C-2F64-48C2-B69F-6154C8D2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71F-E70B-408B-AC63-8C7D5A55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0CF4-939E-42C8-AE29-F5CB1196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E77-4303-4A55-96DB-C6CAA697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2E4C-F24C-4A64-89E7-4E69DC36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CAE-74E9-4FF1-9BCA-DFD402C2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F210-32E2-4387-AC96-506A9513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014-90C8-457D-938F-D3E70C40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31E-2938-4C28-BE24-62C3275A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6020-C55D-42D5-A734-BC2286F8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4AF6E-F515-419A-AE0C-D1F4A1574F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