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07541"/>
        <c:axId val="58747432"/>
      </c:barChart>
      <c:catAx>
        <c:axId val="842075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47432"/>
        <c:crosses val="autoZero"/>
        <c:auto val="1"/>
        <c:lblAlgn val="ctr"/>
        <c:lblOffset val="100"/>
        <c:noMultiLvlLbl val="0"/>
      </c:catAx>
      <c:valAx>
        <c:axId val="587474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075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9229-7D11-4E9D-9BC3-38371213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A9CF-2D3E-47FC-B91E-EA29E6A3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0976-9881-4EF4-B6F4-81EFB651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6E86-C400-42F0-A2DC-3EE30965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7C72-6CE3-4A00-91A0-7EFB963D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CCAA-1B4B-4C2E-A776-2BDFCBD0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014-5887-4259-A563-F4AF67BB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B05-F155-4DC4-9202-99AD35A9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4FEA-D5F5-44BC-880F-6CAAC84A0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BCA6-B004-458A-B8E5-AA9D5149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0F3-DBE0-4CA2-A340-A3B07085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A2A-99C2-4D52-99A4-B9DF638A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5A353-E1F9-4320-8D4A-9B1D337BA5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